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26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7B76-8F8A-4379-A340-B25601864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50BB-D47C-4C17-8917-997DA4574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C34F-4447-44D3-ABBC-B29CA45A5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307E-AFAA-4D5E-A472-D8E5C7687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01CC-A923-418D-8B1E-65048C260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4E51-7C8D-48AC-AAF7-5B9B034F4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6DFE-0DFD-4F9C-9CAC-F89C07DD9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150-2B80-4492-97F5-FA0C535B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EB28-635F-4A6F-B558-33CEB5CD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0C9-A830-4A1C-BFD8-B1B8D7E9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8A4D-50D3-496A-AED4-32CAE8F1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2EC6-2F0B-442D-A546-C32B35F6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260F-1681-4B84-8742-5890E3C5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8DD3-7B7E-4CC1-BF43-A39E7EB7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167E-EFBB-4BFD-AC09-AED3316C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D7F4-51DB-4474-904B-C7CDB5BF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6C64-DDBF-4116-8916-C59535D8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58A0-A382-4F30-A8B7-14D4972D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F1C-9793-487D-B74B-F9659120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DD38-BAD3-4086-862E-52F9C622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7CEE-CEB5-410F-82A9-C463A08C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0313-1F6E-4B36-AD14-9B2E69D6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3E15-83CB-44E5-9058-010FA5EA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7038-72F7-4723-8891-F44DDEE7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4B62D-0EF4-4166-9E16-A4D75592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3C5AE-8FD8-4FBA-A10E-015F08DE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54C19-6469-4C8B-A081-4991756E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6C6A8-A920-4397-BAE1-01529470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7D0A5-B4E4-458A-A94B-2B7EFB1D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A603-399D-4C74-A9C8-D110A1A1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EA5FF-2890-4288-92C6-ADA128E2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FE8D3-8A7A-4025-947B-8B1EDEA4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59051-8C80-4452-8344-31D2A127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335E9-A7E3-46C7-940E-27D665ED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9D541-949B-4BC3-8F47-FA341A37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20543-4700-4230-A9F2-1F3E8E8D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DF5E7-6640-4B7D-87C5-AEF502E2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5DDEA6-744A-4552-98B7-5E0F140D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E6C333-3200-4ED3-9932-4D5B34BF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7A421F-0C6A-4275-965B-F28A1E3F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5BB-E339-45EE-81DD-D7B0B583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DAD2B3-389B-49C3-9FB2-892BF53E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B85F25-E127-4AD4-BBAB-F1E29538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2F00F0-9307-47CF-8606-EA8603B5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BBCB87-5CD5-4E2A-9D89-BF9FFC60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7E4708-1496-4A8F-AE1F-9C88C58E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52B568-5295-44BA-9C27-AFCD4F11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F30DE3-82EB-48DB-A62C-10F03829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CBB7E4-9684-4F69-B706-21200BB8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7CB54A-B1B1-4334-8683-10656961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E5626-93EE-4A63-8D11-EDA683BD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4F6B-1D24-424D-BA07-73AA723C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7E920-FCEA-4E78-BACD-001F2732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1AE9F-EADB-4B57-A24C-A67CB731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215B9-FE82-462B-8384-ADFE0DD4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99653-FA78-4EA4-8E2D-5651C702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DAD4C-90B8-4F78-B67D-96005F25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98755-C4E0-4673-8FC9-7AA681F1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380BE-2CF2-4118-AD77-9D5BC098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D82DA-4E99-4C0C-A77D-4A68147B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B7075-2BE6-4795-AE47-930AFAEA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67F23-BEDD-46CC-856B-769527DC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CDE3-2A20-49AA-966A-DCAF613D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35E4D-E83B-41FC-BDB6-7DEF9F62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CB378A-F042-41A5-81E8-D4890090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5806E6-7AF5-4C74-9B6D-EDD14B09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211D72-553D-42DE-B8F5-36F3EF0F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8ECC3B-7564-4B81-913C-D3EB2903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4FA48F-CA69-45F6-972F-2A05D8B1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057FF6-CBF9-47FC-A6A5-A9865320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2C926A-DF95-4AE2-BD6C-DDD1B4A7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543239-60E7-4D2A-8BA7-87D28E33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C9647E-33DB-4CBD-87A6-2CBD716E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38A5-E4B7-46CD-B51D-8A836D7E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67EF55-BF7C-403F-9515-518B4182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1C064A-F4F7-4731-9411-94E22D5B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870B78-E7F4-43A2-A6DC-F7496996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720F78-011C-4C70-AC6D-2FB72609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A78982-4FCF-4A1F-9903-2E4CCA02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263E8C-1602-4140-B30D-922A9C7A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A3858C-F63B-427C-ACE0-46DB09DC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8AE767-ADDE-4466-A99F-9D8DBF84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D36191-4AE6-4D57-A931-6E8E8BCC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C366C3-2C54-4B64-AB45-FF342A30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F9E9-C3A6-491A-AB1D-F661EE94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6D7DF1-2E24-4073-9DA3-CA9B423C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B7A78A-9D1A-4E64-9D8B-B527BBB2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2776C7-522A-46CC-87CE-1967552F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D3733A-CBCE-4CBF-8387-F32CF0E6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9D9D0D-9F1D-4112-8AF9-DD597C08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2FFC88-C966-4460-A4BE-C8B20D7D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07F5E2-62C3-41DC-ADFD-68851B86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E9539F-8CFB-4274-90DD-22542647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86EB38-1631-40A8-9E46-6616098E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46CFE7-35E5-4308-B386-A94A4EF3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55F-A1C1-4FB2-9F05-3C5D7500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FF4368-A1DB-4C44-90F9-52B14EFB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7D9609-0BB8-4D08-A7E2-060AA596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C320CA-3E1A-4106-BC22-D0AD1A61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F2CDA0-80C6-477B-8588-36DC45C0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0AA004-F9C4-4CBA-9E06-5337BA05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004200-61DF-4D86-9237-AB7B12B4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B7624F-5CAA-466C-A71D-05823BCC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55A2-F240-493B-A5B7-7C8E28208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96AC-8AE7-442E-8E11-911FF12AB37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16DC-57D1-4693-806F-CCE2B0F688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B9B3-8F5C-4B81-A395-16EAE3E796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4111-A0B8-43BD-965F-5C288FC29E2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DAF5-79C4-4A02-96CB-D2EEB8D824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C3D6-5606-491B-925D-237C3C65FD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D34D-E204-436C-8410-B758D94CF24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NIOR VOCABUL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oots List # 1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PED, PEDE, PEDESTRI, PEDI, PEDO, POD, PU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oo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e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oote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d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entiped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destria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dicur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dome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diatris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Biped/bipo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Octopu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latypu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ripo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4" descr="centipede.jpg"/>
          <p:cNvPicPr/>
          <p:nvPr/>
        </p:nvPicPr>
        <p:blipFill>
          <a:blip r:embed="rId1"/>
          <a:stretch/>
        </p:blipFill>
        <p:spPr>
          <a:xfrm>
            <a:off x="2895480" y="3200400"/>
            <a:ext cx="2133720" cy="13716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podiatrist.jpg"/>
          <p:cNvPicPr/>
          <p:nvPr/>
        </p:nvPicPr>
        <p:blipFill>
          <a:blip r:embed="rId2"/>
          <a:stretch/>
        </p:blipFill>
        <p:spPr>
          <a:xfrm>
            <a:off x="304920" y="3276720"/>
            <a:ext cx="1523880" cy="1447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pedal.jpg"/>
          <p:cNvPicPr/>
          <p:nvPr/>
        </p:nvPicPr>
        <p:blipFill>
          <a:blip r:embed="rId3"/>
          <a:stretch/>
        </p:blipFill>
        <p:spPr>
          <a:xfrm>
            <a:off x="7391520" y="28954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pedestrian.jpg"/>
          <p:cNvPicPr/>
          <p:nvPr/>
        </p:nvPicPr>
        <p:blipFill>
          <a:blip r:embed="rId4"/>
          <a:stretch/>
        </p:blipFill>
        <p:spPr>
          <a:xfrm>
            <a:off x="7315200" y="380880"/>
            <a:ext cx="1247760" cy="12477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8" descr="pedicure.jpg"/>
          <p:cNvPicPr/>
          <p:nvPr/>
        </p:nvPicPr>
        <p:blipFill>
          <a:blip r:embed="rId5"/>
          <a:stretch/>
        </p:blipFill>
        <p:spPr>
          <a:xfrm>
            <a:off x="2057400" y="4876920"/>
            <a:ext cx="2057400" cy="1666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platypus.jpg"/>
          <p:cNvPicPr/>
          <p:nvPr/>
        </p:nvPicPr>
        <p:blipFill>
          <a:blip r:embed="rId6"/>
          <a:stretch/>
        </p:blipFill>
        <p:spPr>
          <a:xfrm>
            <a:off x="3124080" y="121932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tripod.jpg"/>
          <p:cNvPicPr/>
          <p:nvPr/>
        </p:nvPicPr>
        <p:blipFill>
          <a:blip r:embed="rId7"/>
          <a:stretch/>
        </p:blipFill>
        <p:spPr>
          <a:xfrm>
            <a:off x="304920" y="525780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ENT, PEN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iv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ntathl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ntag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ntame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4" name="Picture 4" descr="pentagon.jpg"/>
          <p:cNvPicPr/>
          <p:nvPr/>
        </p:nvPicPr>
        <p:blipFill>
          <a:blip r:embed="rId1"/>
          <a:stretch/>
        </p:blipFill>
        <p:spPr>
          <a:xfrm>
            <a:off x="7086600" y="0"/>
            <a:ext cx="1609560" cy="16095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pentagonn.jpg"/>
          <p:cNvPicPr/>
          <p:nvPr/>
        </p:nvPicPr>
        <p:blipFill>
          <a:blip r:embed="rId2"/>
          <a:stretch/>
        </p:blipFill>
        <p:spPr>
          <a:xfrm>
            <a:off x="6019920" y="3352680"/>
            <a:ext cx="2361960" cy="2105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pentameter.jpg"/>
          <p:cNvPicPr/>
          <p:nvPr/>
        </p:nvPicPr>
        <p:blipFill>
          <a:blip r:embed="rId3"/>
          <a:stretch/>
        </p:blipFill>
        <p:spPr>
          <a:xfrm>
            <a:off x="533520" y="2514600"/>
            <a:ext cx="2819160" cy="18288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pentathlon.jpg"/>
          <p:cNvPicPr/>
          <p:nvPr/>
        </p:nvPicPr>
        <p:blipFill>
          <a:blip r:embed="rId4"/>
          <a:stretch/>
        </p:blipFill>
        <p:spPr>
          <a:xfrm>
            <a:off x="2514600" y="4495680"/>
            <a:ext cx="1495440" cy="20764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pentathlonn.jpg"/>
          <p:cNvPicPr/>
          <p:nvPr/>
        </p:nvPicPr>
        <p:blipFill>
          <a:blip r:embed="rId5"/>
          <a:stretch/>
        </p:blipFill>
        <p:spPr>
          <a:xfrm>
            <a:off x="380880" y="4419720"/>
            <a:ext cx="1676520" cy="21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ER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roun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bou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ea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ncirclin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rigee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gee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earth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riscop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rime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rio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ripher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Picture 4" descr="apogee.jpg"/>
          <p:cNvPicPr/>
          <p:nvPr/>
        </p:nvPicPr>
        <p:blipFill>
          <a:blip r:embed="rId1"/>
          <a:stretch/>
        </p:blipFill>
        <p:spPr>
          <a:xfrm>
            <a:off x="304920" y="4267080"/>
            <a:ext cx="2743200" cy="2210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periscope.jpg"/>
          <p:cNvPicPr/>
          <p:nvPr/>
        </p:nvPicPr>
        <p:blipFill>
          <a:blip r:embed="rId2"/>
          <a:stretch/>
        </p:blipFill>
        <p:spPr>
          <a:xfrm>
            <a:off x="3429000" y="3048120"/>
            <a:ext cx="2057400" cy="17524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peripheral.jpg"/>
          <p:cNvPicPr/>
          <p:nvPr/>
        </p:nvPicPr>
        <p:blipFill>
          <a:blip r:embed="rId3"/>
          <a:stretch/>
        </p:blipFill>
        <p:spPr>
          <a:xfrm>
            <a:off x="3124080" y="22860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periscopee.jpg"/>
          <p:cNvPicPr/>
          <p:nvPr/>
        </p:nvPicPr>
        <p:blipFill>
          <a:blip r:embed="rId4"/>
          <a:stretch/>
        </p:blipFill>
        <p:spPr>
          <a:xfrm>
            <a:off x="5943600" y="4800600"/>
            <a:ext cx="1886040" cy="1523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perimeter.jpg"/>
          <p:cNvPicPr/>
          <p:nvPr/>
        </p:nvPicPr>
        <p:blipFill>
          <a:blip r:embed="rId5"/>
          <a:stretch/>
        </p:blipFill>
        <p:spPr>
          <a:xfrm>
            <a:off x="7010280" y="152280"/>
            <a:ext cx="156240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HIL, PHILE, PHILIA, PHIL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o lov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Lovin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ondnes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hilanthropist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ist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one who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Bibliophi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hilosoph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ecrophili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nglophi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* Hemophilia (uncontrollable bleeding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0" name="Picture 5" descr="bibliophile.jpg"/>
          <p:cNvPicPr/>
          <p:nvPr/>
        </p:nvPicPr>
        <p:blipFill>
          <a:blip r:embed="rId1"/>
          <a:stretch/>
        </p:blipFill>
        <p:spPr>
          <a:xfrm>
            <a:off x="3048120" y="2362320"/>
            <a:ext cx="1942920" cy="1218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philanthropist.jpg"/>
          <p:cNvPicPr/>
          <p:nvPr/>
        </p:nvPicPr>
        <p:blipFill>
          <a:blip r:embed="rId2"/>
          <a:stretch/>
        </p:blipFill>
        <p:spPr>
          <a:xfrm>
            <a:off x="533520" y="3962520"/>
            <a:ext cx="2209680" cy="1523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philanthroistt.jpg"/>
          <p:cNvPicPr/>
          <p:nvPr/>
        </p:nvPicPr>
        <p:blipFill>
          <a:blip r:embed="rId3"/>
          <a:stretch/>
        </p:blipFill>
        <p:spPr>
          <a:xfrm>
            <a:off x="3048120" y="4952880"/>
            <a:ext cx="2057400" cy="13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HOBE, PHOBI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bnormal fea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Hatre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islik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nglophob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laustrophobi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claustro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confine; close; shut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yrophobi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pyro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fir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Hydrophobi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Xenophobi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Zoophobia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zoo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animals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6" name="Picture 4" descr="zoophobiaaa.jpg"/>
          <p:cNvPicPr/>
          <p:nvPr/>
        </p:nvPicPr>
        <p:blipFill>
          <a:blip r:embed="rId1"/>
          <a:stretch/>
        </p:blipFill>
        <p:spPr>
          <a:xfrm>
            <a:off x="7315200" y="3886200"/>
            <a:ext cx="1600200" cy="13525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zoophobiaa.jpg"/>
          <p:cNvPicPr/>
          <p:nvPr/>
        </p:nvPicPr>
        <p:blipFill>
          <a:blip r:embed="rId2"/>
          <a:stretch/>
        </p:blipFill>
        <p:spPr>
          <a:xfrm>
            <a:off x="3200400" y="228600"/>
            <a:ext cx="2057400" cy="13906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zoophobia.jpg"/>
          <p:cNvPicPr/>
          <p:nvPr/>
        </p:nvPicPr>
        <p:blipFill>
          <a:blip r:embed="rId3"/>
          <a:stretch/>
        </p:blipFill>
        <p:spPr>
          <a:xfrm>
            <a:off x="2743200" y="396252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claustrophobia.jpg"/>
          <p:cNvPicPr/>
          <p:nvPr/>
        </p:nvPicPr>
        <p:blipFill>
          <a:blip r:embed="rId4"/>
          <a:stretch/>
        </p:blipFill>
        <p:spPr>
          <a:xfrm>
            <a:off x="228600" y="32767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hydrophobia.jpg"/>
          <p:cNvPicPr/>
          <p:nvPr/>
        </p:nvPicPr>
        <p:blipFill>
          <a:blip r:embed="rId5"/>
          <a:stretch/>
        </p:blipFill>
        <p:spPr>
          <a:xfrm>
            <a:off x="228600" y="5181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pyrophobia.jpg"/>
          <p:cNvPicPr/>
          <p:nvPr/>
        </p:nvPicPr>
        <p:blipFill>
          <a:blip r:embed="rId6"/>
          <a:stretch/>
        </p:blipFill>
        <p:spPr>
          <a:xfrm>
            <a:off x="6553080" y="228600"/>
            <a:ext cx="180972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nvasquez</cp:lastModifiedBy>
  <dcterms:modified xsi:type="dcterms:W3CDTF">2008-12-27T05:53:36Z</dcterms:modified>
  <cp:revision>30</cp:revision>
  <dc:subject/>
  <dc:title>Roots List #1</dc:title>
</cp:coreProperties>
</file>